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0A3-7055-4DB2-9458-F3D74EEB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C89-2480-4230-9CF9-C7347289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71CFE-4214-4900-BF84-8E32499C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C72EE-B243-4BA3-B188-0573D1DB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1F2D5-98DD-49D0-B809-C3EE8ECD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09075-7945-45AF-91A1-7A95090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839D7-8114-4DEF-84E4-338519CB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492F2-FB52-4EE0-911A-403A06A0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4F7A9-E8B6-43AF-AA00-33F592F9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A98E4-3466-4A4F-952E-079D326E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DB6DB-C2D0-4936-B791-158A1CB6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029EB-4BFB-4974-8441-73E54CFB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C2F-1E7F-4426-8780-408BD47F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D3697-C198-4C8F-BA42-72D9CB07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FC565-BFE5-4DF6-82CF-7A089473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1CB82-21E2-41EB-AF61-E57F45D3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AFB2E-8B27-4182-BD52-A81D2BAD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9EE21-C999-438C-AB0B-13718E67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480D4-88C2-414C-83BB-F197DC7F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961A7-58AE-49F4-B647-F7C9EB16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0ACF3-A8DD-4656-8E39-7BB1198A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059C2-94E5-41DF-9D92-387B9DF0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06552-75A9-420A-963B-92B07F43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DEB-FA78-49EF-9CA5-D255E028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02398-9419-47A4-8927-CBB5E91B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56063-D69D-47D2-8D07-EC0A0443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09046-5687-4D52-8B4F-7B05E01F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4C4E2-7180-46BA-9C47-DD88E9F3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7600F-C9AB-45E0-B3C5-A1700C98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0B402-08A7-43E9-8D09-D7A2BA1A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45A94-B6A7-4291-B13D-42BBF4A2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4C180-9C5E-435E-BBC9-6010C3AF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B1983-2F93-406D-BE9C-520DD4D0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A0245-2B0D-40AA-B6BB-6C0DA05B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5946-63D8-48FB-B64D-0600D8F1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00218-BF23-4FB2-B223-1D7EFDCE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4EA51-7C2B-46D9-8546-F6328C7A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12D7C-CEBE-41A4-A58C-37EFA6BC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8D391-D1E0-47F4-9B3B-56106D9D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751B0-5B13-4720-BAD0-DF3AF19D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726C4-3AA9-4183-8E94-F6608835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061B2-4234-46AB-9672-18078511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1964B-4386-433B-B245-1B88F2FE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A3E6A-348F-4B62-9E05-CF586341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2870E-C27B-4B2A-8FAF-83A0C8DA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0640-4D03-49D7-881B-4A8ED24B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38E59-A33B-4EC5-ADF2-BCDF929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F6919-8A2E-407D-98A4-35D64223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0B0A74-82F4-4FD8-93FB-567AA0D8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0A207-AFA5-4DB0-804A-C15B8AAE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81697-BE71-4D50-A33B-B1B555C7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1A1B-D1FF-4022-B78B-D3C32367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4E73-34AC-44A9-8830-20DA4CA1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7292-45F9-4315-8993-80CF6954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E558-4B73-48A8-A430-20F76EE5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1D80-1D0A-42E1-BFC2-FCCD6C58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D27-0A43-4650-85FC-C3A7A7C8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50F3-4617-4E32-BA22-71BD3B74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0AFB-C871-4FE9-8531-4186B3E6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822D-C65C-4D2B-85EF-2143C250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222D-5BB8-4B78-BEA8-5B38E9F1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EE7C-107B-4438-9A62-71C7370F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BEBF-82F1-4AF4-8C1D-1C6E63C8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36ED9-74FC-4899-B6B6-F6713AC1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3E79-DE85-459C-B499-46FE676E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77EA5-9BD6-47EF-B229-52BC3629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B3EC-483C-4982-8BF9-2922CBE4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D72-26E0-4B89-965B-E98E4D0B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9845F-F7C6-4FB2-B601-3705A768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1EA27-F883-43D8-BADE-1B0DA667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302C-4B7B-4BED-80BA-CC36CBD7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306A-F965-42EB-8B92-0344F3BF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82BF-163C-413C-8C71-A8CBE48A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7F67A-50BA-4771-ADA7-94260F22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B84A-AB04-459B-8962-5D4D578F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8C570-6DB8-4FD4-8754-D0D3CC3D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FB547-5E09-4EA3-9EC4-B9D418B5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6AC63-93DD-440B-AD12-46E735A5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002-1CE5-49BC-A402-9C2FC5F6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1B522-0158-427D-9F51-F425EBFB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52F7C-2EAC-4B10-AA6B-3C4126FF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8DCB-CAF5-4966-B29C-4FD7A825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B6975-AF74-4C7B-831F-FC5EB6C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2E497-0988-4B6C-B17F-8FEE09A7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B9C54-3E88-429E-921A-7C65FBBB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838C-C95D-4BDA-B0E0-02F74367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F2CCD-1BF1-4FFA-A885-2E04D9A0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CE47E-A571-407C-8AD5-C6BDCAAD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574F8-6FC8-4593-99F0-6AFD14E3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62A-087D-4853-ADEA-5B31CA29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382C5-8B63-47D4-A1B8-E809C1E8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023CC-F57D-4971-86A9-E8D432E7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B1EA3-3DAF-4D78-922B-4FBB11FD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1951E-6FE0-4642-B882-7FAC36C5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E49CE-ABF3-4E46-A13E-293F99A8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6741E-4BD3-41BD-98BE-593260F6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B3A04-139B-479C-9AF4-37BE9A49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71768-EC4B-4B98-92B4-346E3F47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51280-82B0-4E5C-B8BB-7695DD59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42AED-DA4F-415C-8351-2B1419E4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46B-1591-43F1-8845-BCEF7D7C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52893-3A99-428A-8C31-0451AEAE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99F84-FFA9-4D3C-A6C8-4A6DCC8C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E56A8-D113-4BAD-8C6C-A5061037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E74B9-8905-41D9-AB52-79046D7C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11E6E-ED6C-4A46-9718-07CFB7BF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49679-EBD0-4086-B70B-D8F52DE5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D1970-0D4D-45C3-956C-0AB70966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7E1D7-7239-49B1-8C4B-94FB5B86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7511F-8B15-4489-8A6D-2338763C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D3C2D-EFA7-4D5C-8326-2E3DF670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D6C-9DF7-47D2-AA72-D10B298D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72C66-15F4-435E-ADB2-DA3CD3FD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27928-C2F2-473D-AF3B-8870F106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37D82-ACE4-4A7C-929D-7E9F55B1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D5939-EA14-4A32-B623-2CB5EEB6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BE432-CEE9-478A-BBA4-E31022F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C8A78-E295-419E-8C7F-C9F88AFE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AE97E-599C-4D68-867A-95925620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5B493-A6F9-4A28-BC07-EE45D15D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4F7C5-C87B-44E5-9F38-5A1FBF0D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2418B-A943-4EF3-B784-9D8494BB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EC4-AE75-4E1B-8F0E-9FA88598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0211C-42BD-4AEE-B72B-3A23DDF1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4ED83-E3F1-41D2-8799-86FA6E5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7ACF9-41A6-45FD-BDEF-406ABB2B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BE89A-2B29-400B-B9D9-C5B067D6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2BAE3-E0AE-442F-8F27-945D8CF7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C5114-839A-4CCF-AB61-5FE7327D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0473E-5819-4BA8-A450-F623314A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B4962-D472-43D0-A185-360D5188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A1B6F-4B8E-4D67-81B5-BA78DEC5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C644C-0340-40FE-A67B-9A9C2CD6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6F2-0F2A-4255-BC3E-4B168FB7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855C1-0B33-4DD3-8CC0-7A2B316F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A9340-EBDA-4CB0-8993-64A1A89E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DA7A2-FEC9-445E-A2EB-6165F461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445AD-9AEB-489E-9170-D792C278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3B7F3-B32B-41AF-8394-DCD7ED4B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08430-3D1D-469B-A5BE-3F776A48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420CD-5587-41B5-9966-57AF51F7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54F68-23CF-40F8-B262-D04A41A2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7B192-6BDE-4DBE-BD39-07239464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422CB-BBA3-457A-99DA-EAF8CE12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8F0B-D8C7-4160-B9AD-1557C62A62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7FB2-0B0F-4426-A4C0-19854E3C77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787F-128E-4A49-8817-E5DF939EE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DDEF-392A-4F11-8497-5A75120C0B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51E1-F25A-43E7-BBF1-7836CD7E1B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9ABB-1468-420B-98C7-0B9AE98B8F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F400-C1DE-4ED5-99CC-A02FCA83B3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2913-498B-49C0-9AD0-40B1718538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AA3E-1E24-4B10-8387-43A0317C93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1AAD-E78F-4E74-B080-7ADD5B647C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21B4-A34A-47BD-B18F-D4443C4398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AEF1-F284-4B59-BC59-0AC5CF12C1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46b86"/>
                </a:solidFill>
                <a:latin typeface="Georgia"/>
              </a:rPr>
              <a:t>AMELIA VEN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ake Bos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4004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646b86"/>
                </a:solidFill>
                <a:latin typeface="Georgia"/>
              </a:rPr>
              <a:t>Trois niveaux en bonbons pour gâteaux</a:t>
            </a:r>
            <a:endParaRPr b="0" lang="en-US" sz="2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Georgia"/>
              </a:rPr>
              <a:t>Les gâteau ecce est  une très bon gâteau  par Buddy le Cake Boss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4249800" y="544680"/>
            <a:ext cx="3581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7b9899"/>
                </a:solidFill>
                <a:latin typeface="Georgia"/>
              </a:rPr>
              <a:t>Des Fausses Réalité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—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urant les émissions de Cake Boss je pense que les producteurs choisie les gâteaux qui sont plus populaire pour être sur l'émission</a:t>
            </a: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—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Les autres gâteau qui sont petit et ordinaire gâteau ne sont pas populai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Georgia"/>
              </a:rPr>
              <a:t>Une deux paliers comique livre gâteau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Georgia"/>
              </a:rPr>
              <a:t>Le gâteau ecce est très colorable . C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’e</a:t>
            </a:r>
            <a:r>
              <a:rPr b="0" lang="fr-CA" sz="1600" spc="-1" strike="noStrike">
                <a:solidFill>
                  <a:srgbClr val="ffffff"/>
                </a:solidFill>
                <a:latin typeface="Georgia"/>
              </a:rPr>
              <a:t>st très belle est des personnes voulez regarder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4013280" y="533520"/>
            <a:ext cx="4075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7b9899"/>
                </a:solidFill>
                <a:latin typeface="Georgia"/>
              </a:rPr>
              <a:t>Est le gâteau brillant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680" y="1371600"/>
            <a:ext cx="42703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Georgia"/>
              </a:rPr>
              <a:t>Les personnes est regardez l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fr-CA" sz="2500" spc="-1" strike="noStrike">
                <a:solidFill>
                  <a:srgbClr val="000000"/>
                </a:solidFill>
                <a:latin typeface="Georgia"/>
              </a:rPr>
              <a:t>émission pour les gâteau plus populaire. Si un gâteau est n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fr-CA" sz="2500" spc="-1" strike="noStrike">
                <a:solidFill>
                  <a:srgbClr val="000000"/>
                </a:solidFill>
                <a:latin typeface="Georgia"/>
              </a:rPr>
              <a:t>a pas brillant puis les personnes arrêtez regardez l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fr-CA" sz="2500" spc="-1" strike="noStrike">
                <a:solidFill>
                  <a:srgbClr val="000000"/>
                </a:solidFill>
                <a:latin typeface="Georgia"/>
              </a:rPr>
              <a:t>émission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4977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46b86"/>
                </a:solidFill>
                <a:latin typeface="Georgia"/>
              </a:rPr>
              <a:t>Gâteau Coffre aux trésor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Georgia"/>
              </a:rPr>
              <a:t>Les gâteau ecce est très brillant. Il semble très réel. Les personnes regardez le Cake Boss préparation le gâteau et ils est très content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5848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7b9899"/>
                </a:solidFill>
                <a:latin typeface="Georgia"/>
              </a:rPr>
              <a:t>Le gâteau est plus gra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—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our une personne comme moi, une grande gâteaux n'a pas possible. Les personnes sur l'émission est très bonne à la préparation à un gâtea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Est-ce qu'une personne avec sans de compétences cuire un grand gâteau? N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ffffff"/>
                </a:solidFill>
                <a:latin typeface="Georgia"/>
              </a:rPr>
              <a:t>Un autre exemple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Georgia"/>
              </a:rPr>
              <a:t>Est-ce que tu regardez un émission avec un garçon préparation le gâteau ecce. Je pence que non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2975040" y="1295280"/>
            <a:ext cx="59436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6:16:45Z</dcterms:created>
  <dc:creator>A satisfied Microsoft Office User</dc:creator>
  <dc:description/>
  <dc:language>en-US</dc:language>
  <cp:lastModifiedBy>A satisfied Microsoft Office User</cp:lastModifiedBy>
  <dcterms:modified xsi:type="dcterms:W3CDTF">2011-02-24T16:56:49Z</dcterms:modified>
  <cp:revision>13</cp:revision>
  <dc:subject/>
  <dc:title>Cake Boss</dc:title>
</cp:coreProperties>
</file>